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3DB-CA15-40BA-A20E-9D2ED4B7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A11-306A-438E-A28C-3E9F04AB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4E5-446C-47BC-95D1-85A3E9EB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717-F8E2-411A-920F-C0B08ED1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E4D2-7F11-4AFB-B4F9-A4EA5919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910C-D40C-4DFF-A2AD-6B5C5413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47CF-BA76-4B22-AC7C-430A50B4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56D0-25C9-47B9-82ED-6E7BBEEE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7D2E-28B1-40D2-8246-E7480AB0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1009-C08B-4C12-A21D-ABCD13B4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86E8-1E43-47B0-B750-B68A9C4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2C7-3E52-4994-8F4F-57CF3D16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F9A0-AA52-4391-B61D-963F6BF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5A3-6FEA-48B6-97A7-72C41D7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E7B9-5462-42D9-BC24-FFB91812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F708-9816-487C-AC42-7BAC62D8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6F8D-BC3E-4383-80CB-32716472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5599-2B8F-4CE4-9BFD-705B071A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BC5D-6150-404C-BEFB-969551C1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958F-23E6-4671-9A88-322A4024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E47F-2F3D-49F6-AE34-F3CE8BEB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B53C-3679-42DD-B6CD-5CB848BC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F49-ACA8-44A3-9682-CDE9B11E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EDB0-742D-4DA3-8148-36F1EB8D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A45F-551D-4DC1-8037-41AAA49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2561-50CC-4231-9893-9AECE8F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5804-16E6-4FB4-8808-F9A1DFC7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AA9C-85C5-4174-82F5-D863B9DA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0AC2-C83F-4ED3-BB80-62DF53D6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B0F71-9A1B-4D2A-9E00-1AB3B8CB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F91A-F624-4300-9C70-CCDA57C4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E3CE-6969-4E8D-8C3E-F687AC9C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5AF5-46E1-48DE-B8DB-B1218623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13D-E0B8-4A9E-BD9B-F9F72515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41097-D761-47E5-8672-9D8A5A87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1222-3C4E-477B-B2DA-436343D1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8C15-D606-4722-8B10-8EDCB1C4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7276-F629-49CF-A2F6-F731B0F1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885B-5F6A-482C-B6CB-6AD9A14D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339CF-54EB-423D-810F-BAF7316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5609-11B1-4B3A-9A41-26F37C3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1C3F-A3AC-4290-B4F3-CB5C0960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21B5-FBC0-499A-823D-464EF9BF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F7AD9-CC0A-4524-AC79-806E6EA2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A32-855D-4075-B160-29E88A52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0E74B-9C4C-4627-9D99-98C9B1B0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411B-8E9B-4FF4-A5D5-10531FF6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CCB6A-C645-4235-9AA9-411C5E96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846FA-7065-48DF-9CC0-18774EC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EDEC4-180E-4C7E-A64B-A7A4152B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0DBB-A8F4-4162-8774-C860754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2762-ECBC-452E-8501-A13C8BAF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FA1A-29B7-4832-BF3D-26D50FA8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A013-8577-4BF6-A67F-67E17CB9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04D48-6D8C-4CDD-B450-7B67F39D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9BE-E68F-4634-98FB-DB2AF66F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4EDF-CE1A-4973-96F3-57B47E22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6E145-A81A-48B2-A80A-EDB0F147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028D3-589F-4506-B91E-B34A6A17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D22A-C7AC-425C-86E6-7A93832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62D4D-73D5-4DE1-83DD-E8DCE02D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10C5-E730-4690-A355-7807FB65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3F2A-7DD4-4104-9456-97774BB7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9136-9582-4BBD-8D7F-2722066F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89005-A22F-42B1-BFE5-75FFCE40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42927-36F9-4C7D-863E-992B604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F39-96F5-4B6C-9357-3F680003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97303-25C6-4FF6-957E-EF69C6C3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03F6F-BE7A-49A3-91ED-ED025F39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3BC28-3233-461B-A410-5FE48E1D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2433-1CB6-4074-8392-8CA084DF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B46D8-87CD-4648-A2E4-69FC494F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D2A82-C9B0-4ED9-ACBB-712BD234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4675B-CED7-463B-9A50-BECD155B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C0114-AF05-4A90-A914-589AADC8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7C26E-3D80-48C7-ABB2-C4810C37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386DD-FBD5-4EBD-AF5D-13C38D5F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AAE-0A78-4810-9A27-4660F602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250FC-1345-443C-B90F-D0D2F2B2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DC330-CC34-4891-87BF-285F35A6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553D4-4F11-4793-BE32-044363B1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263F0-5A27-4442-9F4C-8F6B4F15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58673-3D07-413D-9C65-10016186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5CB-5FC2-46BD-A8C2-0599DAFA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72FD-0B94-4270-BEAB-ACFC78BF5442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2BE7-7FFA-4308-87F4-EC78AC2EA6A9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1272-32BE-4681-9A7C-176C118E9FF0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CDB1-1A2A-4E1E-835D-AE04EE40CE3A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2818-67B7-4E33-8CB3-7BCA1E0B360D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0BC3-F52E-4939-8732-425F999997E3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8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1b587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4e8542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6048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4A4D-7399-4070-82A8-C018B587A6B8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pplication Form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703B-3A03-4F2B-9711-DCF2EE60C207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ight Arrow 6"/>
          <p:cNvSpPr/>
          <p:nvPr/>
        </p:nvSpPr>
        <p:spPr>
          <a:xfrm>
            <a:off x="285840" y="2500200"/>
            <a:ext cx="2357280" cy="100008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R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ight Arrow 7"/>
          <p:cNvSpPr/>
          <p:nvPr/>
        </p:nvSpPr>
        <p:spPr>
          <a:xfrm>
            <a:off x="2786040" y="2500200"/>
            <a:ext cx="2357640" cy="1000080"/>
          </a:xfrm>
          <a:prstGeom prst="righ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Job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ight Arrow 8"/>
          <p:cNvSpPr/>
          <p:nvPr/>
        </p:nvSpPr>
        <p:spPr>
          <a:xfrm>
            <a:off x="5643720" y="3062160"/>
            <a:ext cx="2643120" cy="100980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Job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ight Arrow 9"/>
          <p:cNvSpPr/>
          <p:nvPr/>
        </p:nvSpPr>
        <p:spPr>
          <a:xfrm>
            <a:off x="5643720" y="2000160"/>
            <a:ext cx="2357280" cy="100008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Job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ounded Rectangle 10"/>
          <p:cNvSpPr/>
          <p:nvPr/>
        </p:nvSpPr>
        <p:spPr>
          <a:xfrm>
            <a:off x="785880" y="4429080"/>
            <a:ext cx="2857320" cy="714600"/>
          </a:xfrm>
          <a:prstGeom prst="roundRect">
            <a:avLst>
              <a:gd name="adj" fmla="val 16667"/>
            </a:avLst>
          </a:prstGeom>
          <a:solidFill>
            <a:srgbClr val="c19859"/>
          </a:solidFill>
          <a:ln w="4860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Job Advertis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ight Arrow 11"/>
          <p:cNvSpPr/>
          <p:nvPr/>
        </p:nvSpPr>
        <p:spPr>
          <a:xfrm>
            <a:off x="4500720" y="4286160"/>
            <a:ext cx="2357280" cy="100008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986f2f"/>
              </a:gs>
              <a:gs pos="100000">
                <a:srgbClr val="d29b45"/>
              </a:gs>
            </a:gsLst>
            <a:lin ang="16200000"/>
          </a:gradFill>
          <a:ln cap="rnd" w="6480">
            <a:solidFill>
              <a:srgbClr val="bf9554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ow to appl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" name="Rounded Rectangle 14"/>
          <p:cNvGrpSpPr/>
          <p:nvPr/>
        </p:nvGrpSpPr>
        <p:grpSpPr>
          <a:xfrm>
            <a:off x="2176560" y="5602320"/>
            <a:ext cx="4016160" cy="907920"/>
            <a:chOff x="2176560" y="5602320"/>
            <a:chExt cx="4016160" cy="907920"/>
          </a:xfrm>
        </p:grpSpPr>
        <p:pic>
          <p:nvPicPr>
            <p:cNvPr id="314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2176560" y="5602320"/>
              <a:ext cx="40161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324160" y="5681520"/>
              <a:ext cx="37814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ff"/>
                  </a:solidFill>
                  <a:latin typeface="Tahoma"/>
                </a:rPr>
                <a:t>Application or Resume/C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914400" y="133200"/>
            <a:ext cx="7236000" cy="115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3623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tal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&amp; Weigh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’s name , age &amp; occup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’s, parents, next of kin’s etc, name, age &amp; occup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Serv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inal Convi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2257-C80C-4ACE-BF66-62B4759849E6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Picture 7" descr="D:\PFiles\MSOffice\Clipart\standard\stddir4\so01441_.wmf"/>
          <p:cNvPicPr/>
          <p:nvPr/>
        </p:nvPicPr>
        <p:blipFill>
          <a:blip r:embed="rId2"/>
          <a:stretch/>
        </p:blipFill>
        <p:spPr>
          <a:xfrm>
            <a:off x="228600" y="3886200"/>
            <a:ext cx="1944720" cy="2639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D:\PFiles\MSOffice\Clipart\standard\stddir4\so00769_.wmf"/>
          <p:cNvPicPr/>
          <p:nvPr/>
        </p:nvPicPr>
        <p:blipFill>
          <a:blip r:embed="rId3"/>
          <a:stretch/>
        </p:blipFill>
        <p:spPr>
          <a:xfrm>
            <a:off x="6477120" y="4419720"/>
            <a:ext cx="23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437920" y="22856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me ownership, financial transactions, legal or civil actions, smoking, drink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rivers </a:t>
            </a: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Licenc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Bankcard, passport, Medicare numb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alth of partner/fami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35BF-715E-439F-9D64-C7EE8ADD0756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4" name="Picture 4" descr="D:\PFiles\MSOffice\Clipart\standard\stddir1\bd06919_.wmf"/>
          <p:cNvPicPr/>
          <p:nvPr/>
        </p:nvPicPr>
        <p:blipFill>
          <a:blip r:embed="rId2"/>
          <a:stretch/>
        </p:blipFill>
        <p:spPr>
          <a:xfrm>
            <a:off x="6638760" y="0"/>
            <a:ext cx="2505240" cy="2292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D:\PFiles\MSOffice\Clipart\standard\stddir1\bd00023_.wmf"/>
          <p:cNvPicPr/>
          <p:nvPr/>
        </p:nvPicPr>
        <p:blipFill>
          <a:blip r:embed="rId3"/>
          <a:stretch/>
        </p:blipFill>
        <p:spPr>
          <a:xfrm>
            <a:off x="0" y="4786200"/>
            <a:ext cx="22096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rbel"/>
              </a:rPr>
              <a:t>Critique the applications for employment form as provided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Content Placeholder 5" descr="arch_gilliandunlop,0.jpg"/>
          <p:cNvPicPr/>
          <p:nvPr/>
        </p:nvPicPr>
        <p:blipFill>
          <a:blip r:embed="rId2"/>
          <a:stretch/>
        </p:blipFill>
        <p:spPr>
          <a:xfrm>
            <a:off x="4645080" y="2066760"/>
            <a:ext cx="4048200" cy="404208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C42F-0C4B-402E-AB8E-DFD7C79C2444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669160" cy="1427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 particular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itle, name, &amp; addres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tact  detai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ducation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pecial skills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vious and present employment detai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feree conta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BCBB-3FEE-4522-9C6F-E6830AB2C628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arch_craigruddy,0.jpg"/>
          <p:cNvPicPr/>
          <p:nvPr/>
        </p:nvPicPr>
        <p:blipFill>
          <a:blip r:embed="rId2"/>
          <a:stretch/>
        </p:blipFill>
        <p:spPr>
          <a:xfrm>
            <a:off x="5261040" y="1603440"/>
            <a:ext cx="29322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 Histo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st employ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urrent employ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acter referen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urity check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dical Examina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sessment Centr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sychological/Skills Assess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riminal Records ***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redit Reports ****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300F-5592-4B03-9041-523B2113EF1D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C:\Program Files\Microsoft Office\MEDIA\CAGCAT10\j0302953.jpg"/>
          <p:cNvPicPr/>
          <p:nvPr/>
        </p:nvPicPr>
        <p:blipFill>
          <a:blip r:embed="rId2"/>
          <a:stretch/>
        </p:blipFill>
        <p:spPr>
          <a:xfrm>
            <a:off x="6000840" y="1600200"/>
            <a:ext cx="30002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rbel"/>
              </a:rPr>
              <a:t>Design an application for employment form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rbel"/>
              </a:rPr>
              <a:t>Develop a how to apply kit to send with Application form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Content Placeholder 5" descr="arch_roberthannaford,0.jpg"/>
          <p:cNvPicPr/>
          <p:nvPr/>
        </p:nvPicPr>
        <p:blipFill>
          <a:blip r:embed="rId2"/>
          <a:stretch/>
        </p:blipFill>
        <p:spPr>
          <a:xfrm>
            <a:off x="4648320" y="1881360"/>
            <a:ext cx="4038480" cy="440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DD03-E7FC-44E5-BDB2-51151B432780}" type="slidenum">
              <a:rPr b="0" lang="en-A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5:16:54Z</dcterms:created>
  <dc:creator>Mr &amp; Mrs McLeod</dc:creator>
  <dc:description/>
  <dc:language>en-US</dc:language>
  <cp:lastModifiedBy>John</cp:lastModifiedBy>
  <dcterms:modified xsi:type="dcterms:W3CDTF">2010-08-28T00:05:50Z</dcterms:modified>
  <cp:revision>12</cp:revision>
  <dc:subject/>
  <dc:title>Recruitment &amp; Selection</dc:title>
</cp:coreProperties>
</file>